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E492-DA92-4787-B266-F860994E9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2BC1-0E7D-4BBE-A8AA-E1BE3F2E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C71E-2C90-4DAB-B729-EFFFC7D39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E68A-3D41-4C06-B976-2A5759C35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55F9-CAA2-458E-AACF-C0BFEDE8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8A7B-607F-4F4B-81F9-FB30CFBB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39F4-B96C-4FC2-963A-F91D4FA3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A330-9733-4423-81A3-DC5994DC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E2FE-97D0-435D-9374-F98FF2B3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9393-77D4-4BC1-AB19-A1310303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3EA7-B997-4A13-BB45-058B6789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5F2A-D7B2-4BA8-B716-6BDED215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F47B-D798-452B-9545-56C7DF6F8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6554880"/>
            <a:ext cx="9144000" cy="3045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3240" y="6555240"/>
            <a:ext cx="22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Algebr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5880" y="138960"/>
            <a:ext cx="101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0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066680" y="181440"/>
            <a:ext cx="80773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requency and Hist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8000" y="137160"/>
            <a:ext cx="101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0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16596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requency and Histogra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65530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Algebr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3553200" y="241236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2" action="ppaction://hlinksldjump"/>
          </p:cNvPr>
          <p:cNvSpPr/>
          <p:nvPr/>
        </p:nvSpPr>
        <p:spPr>
          <a:xfrm>
            <a:off x="3616200" y="302184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3" action="ppaction://hlinksldjump"/>
          </p:cNvPr>
          <p:cNvSpPr/>
          <p:nvPr/>
        </p:nvSpPr>
        <p:spPr>
          <a:xfrm>
            <a:off x="3584160" y="3631320"/>
            <a:ext cx="21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Qu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838080" y="1828800"/>
            <a:ext cx="7712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of a data value is the number of times it occurs.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frequency tab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shows the frequency of each data value. If the data is divided into intervals, the table shows the frequency of each interv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: Making a Frequency T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2240" y="1523880"/>
            <a:ext cx="8321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he numbers of students enrolled in Western Civilization classes at a university are given below. Use the data to make a frequency table with interv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90560" y="3276720"/>
            <a:ext cx="78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12, 22, 18, 9, 25, 31, 28, 19, 22, 27, 32,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3978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Identify the least and greatest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46483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he least value is 9. The greatest value is 3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1065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181480" y="3505320"/>
          <a:ext cx="3352680" cy="252252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Enroll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1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– 2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– 3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 – 4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5181480" y="2971800"/>
            <a:ext cx="3367080" cy="533520"/>
          </a:xfrm>
          <a:prstGeom prst="rect">
            <a:avLst/>
          </a:prstGeom>
          <a:solidFill>
            <a:srgbClr val="33cc33">
              <a:alpha val="48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rollment in Wes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ivilization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81480" y="3505320"/>
            <a:ext cx="335304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1676520"/>
            <a:ext cx="72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tep 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Divide the data into equal interv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74880" y="2209680"/>
            <a:ext cx="39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For this data set, use an interval of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74880" y="3460680"/>
            <a:ext cx="4130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tep 3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List the intervals in the first column of the table. Count the number of data values in each interval and list the count in the last column. Give the table a tit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1600200"/>
            <a:ext cx="805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he number of days of Maria’s last 15 vacations are listed below. Use the data to make a frequency table with interv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56800" y="2851200"/>
            <a:ext cx="60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4, 8, 6, 7, 5, 4, 10, 6, 7, 14, 12, 8, 10, 15,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19240" y="35053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Identify the least and greatest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47680" y="41752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he least value is 4. The greatest value is 1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27160" y="4944960"/>
            <a:ext cx="72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tep 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Divide the data into equal interv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23920" y="5562720"/>
            <a:ext cx="73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For this data set use an interval of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762120" y="152388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tep 3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List the intervals in the first column of the table. Count the number of data values in each interval and list the count in the last column. Give the table a tit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681280" y="3886200"/>
          <a:ext cx="3352680" cy="2282760"/>
        </p:xfrm>
        <a:graphic>
          <a:graphicData uri="http://schemas.openxmlformats.org/drawingml/2006/table">
            <a:tbl>
              <a:tblPr/>
              <a:tblGrid>
                <a:gridCol w="1676160"/>
                <a:gridCol w="1676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– 6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– 9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– 1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– 1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2666880" y="3352680"/>
            <a:ext cx="3367080" cy="533520"/>
          </a:xfrm>
          <a:prstGeom prst="rect">
            <a:avLst/>
          </a:prstGeom>
          <a:solidFill>
            <a:srgbClr val="33cc33">
              <a:alpha val="48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umber of  Vacation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681280" y="3886200"/>
            <a:ext cx="335268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914400" y="1905120"/>
            <a:ext cx="7026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histogra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is a bar graph used to display the frequency of data divided into equal intervals. The bars must be of equal width and should touch, but not overl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: Making a Histogr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1616040"/>
            <a:ext cx="786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Use the frequency table in Example 2 to make a hist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2590920"/>
            <a:ext cx="481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tep 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Use the scale and interval from the frequency t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77960" y="3809880"/>
            <a:ext cx="458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tep 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Draw a bar for the number of classes in each interv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5562720" y="3200400"/>
          <a:ext cx="3352680" cy="252252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Enroll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1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– 2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– 3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 – 4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5548320" y="2666880"/>
            <a:ext cx="3367080" cy="533520"/>
          </a:xfrm>
          <a:prstGeom prst="rect">
            <a:avLst/>
          </a:prstGeom>
          <a:solidFill>
            <a:srgbClr val="33cc33">
              <a:alpha val="48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rollment in Wes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ivilization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562720" y="3200400"/>
            <a:ext cx="335268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22240" y="5076720"/>
            <a:ext cx="413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ll bars should be the same width. The bars should touch, but not overl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2240" y="2317680"/>
            <a:ext cx="390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tep 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Title the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nd label the horizontal and vertical sc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248440" y="2247840"/>
            <a:ext cx="313344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1450800"/>
            <a:ext cx="805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Make a histogram for the number of days of Maria’s last 15 va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51880" y="2212920"/>
            <a:ext cx="60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4, 8, 6, 7, 5, 4, 10, 6, 7, 14, 12, 8, 10, 15,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300400" y="4118040"/>
          <a:ext cx="3352680" cy="2282760"/>
        </p:xfrm>
        <a:graphic>
          <a:graphicData uri="http://schemas.openxmlformats.org/drawingml/2006/table">
            <a:tbl>
              <a:tblPr/>
              <a:tblGrid>
                <a:gridCol w="1676160"/>
                <a:gridCol w="1676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– 6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– 9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– 1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– 1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2286000" y="3584520"/>
            <a:ext cx="3367080" cy="533520"/>
          </a:xfrm>
          <a:prstGeom prst="rect">
            <a:avLst/>
          </a:prstGeom>
          <a:solidFill>
            <a:srgbClr val="33cc33">
              <a:alpha val="48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umber of  Vacation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0" y="4118040"/>
            <a:ext cx="335268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2685960"/>
            <a:ext cx="82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tep 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Use the scale and interval from the frequency t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 Continu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98560" y="182880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tep 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Draw a bar for the number of scores in each interv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98560" y="2743200"/>
            <a:ext cx="413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ll bars should be the same width. The bars should touch, but not overl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4419720"/>
            <a:ext cx="390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tep 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Title the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nd label the horizontal and vertical sc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876920" y="2743200"/>
            <a:ext cx="3200400" cy="3580920"/>
            <a:chOff x="4876920" y="2743200"/>
            <a:chExt cx="3200400" cy="3580920"/>
          </a:xfrm>
        </p:grpSpPr>
        <p:sp>
          <p:nvSpPr>
            <p:cNvPr id="184" name=""/>
            <p:cNvSpPr/>
            <p:nvPr/>
          </p:nvSpPr>
          <p:spPr>
            <a:xfrm>
              <a:off x="4876920" y="2895480"/>
              <a:ext cx="457200" cy="38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" name="" descr=""/>
            <p:cNvPicPr/>
            <p:nvPr/>
          </p:nvPicPr>
          <p:blipFill>
            <a:blip r:embed="rId1"/>
            <a:stretch/>
          </p:blipFill>
          <p:spPr>
            <a:xfrm>
              <a:off x="5477040" y="2962080"/>
              <a:ext cx="2524320" cy="33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6096240" y="2743200"/>
              <a:ext cx="1981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99"/>
                  </a:solidFill>
                  <a:latin typeface="Verdana"/>
                  <a:ea typeface="Arial"/>
                </a:rPr>
                <a:t>Vac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96040" y="2852640"/>
              <a:ext cx="457200" cy="38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990720"/>
            <a:ext cx="8458200" cy="54864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dentify the least and greatest value in each data s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4, 62, 45, 35, 75, 23, 35, 65, 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6, 3.4, 2.6, 4.8, 1.3, 3.5, 4.0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rder the data from least to grea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4, 5.1, 3.7, 2.1, 3.6, 4.0, 2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5, 5, 6, 8, 7, 4, 6, 5, 9, 3, 6, 6, 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274880" y="2486160"/>
            <a:ext cx="117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  <a:ea typeface="Arial"/>
              </a:rPr>
              <a:t>23, 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747120" y="3171960"/>
            <a:ext cx="13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  <a:ea typeface="Arial"/>
              </a:rPr>
              <a:t>1.3, 4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79800" y="4952880"/>
            <a:ext cx="48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  <a:ea typeface="Arial"/>
              </a:rPr>
              <a:t>2.1, 2.4, 2.9, 3.6, 3.7, 4.0, 5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70880" y="5924520"/>
            <a:ext cx="506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  <a:ea typeface="Arial"/>
              </a:rPr>
              <a:t>3, 4, 5, 5, 5, 6, 6, 6, 6, 7, 8, 9,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838080" y="1600200"/>
            <a:ext cx="7788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Cumulative 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shows the frequency of all data values less than or equal to a given value. You could just count the number of values, but if the data set has many values, you might lose track. Recording the data in a cumulative frequency table can help you keep track of the data values as you cou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: Making a Cumulative Frequency T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46280" y="1616040"/>
            <a:ext cx="809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he weights (in ounces) of packages of pork chops are given be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46280" y="2530440"/>
            <a:ext cx="794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19, 20, 26, 18, 25, 29, 18, 18, 22, 24, 27, 26, 24, 21, 29,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46280" y="3444840"/>
            <a:ext cx="80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. Use the data to make a cumulative frequency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4359240"/>
            <a:ext cx="832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tep 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Choose intervals for the first column of the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62120" y="5349960"/>
            <a:ext cx="82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tep 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Record the frequency values in each interval for the second colum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4038480" y="3429000"/>
          <a:ext cx="4724280" cy="2971800"/>
        </p:xfrm>
        <a:graphic>
          <a:graphicData uri="http://schemas.openxmlformats.org/drawingml/2006/table">
            <a:tbl>
              <a:tblPr/>
              <a:tblGrid>
                <a:gridCol w="1428840"/>
                <a:gridCol w="1546200"/>
                <a:gridCol w="1749240"/>
              </a:tblGrid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ght (o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ul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-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-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-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-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 Continu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69960" y="1555920"/>
            <a:ext cx="82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tep 3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dd the frequency of each interval to the frequencies of all the intervals before it. Put that number in the third column of the table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477120" y="4419720"/>
            <a:ext cx="1143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77120" y="5029200"/>
            <a:ext cx="1143000" cy="0"/>
          </a:xfrm>
          <a:prstGeom prst="line">
            <a:avLst/>
          </a:prstGeom>
          <a:ln w="1908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477120" y="5562720"/>
            <a:ext cx="1143000" cy="0"/>
          </a:xfrm>
          <a:prstGeom prst="line">
            <a:avLst/>
          </a:prstGeom>
          <a:ln w="1908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77120" y="6095880"/>
            <a:ext cx="1143000" cy="0"/>
          </a:xfrm>
          <a:prstGeom prst="line">
            <a:avLst/>
          </a:prstGeom>
          <a:ln w="1908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6476760" y="4524480"/>
            <a:ext cx="1143000" cy="380880"/>
          </a:xfrm>
          <a:prstGeom prst="line">
            <a:avLst/>
          </a:prstGeom>
          <a:ln w="1908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6476760" y="5105520"/>
            <a:ext cx="1143000" cy="380880"/>
          </a:xfrm>
          <a:prstGeom prst="line">
            <a:avLst/>
          </a:prstGeom>
          <a:ln w="1908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6476760" y="5638680"/>
            <a:ext cx="1143000" cy="381240"/>
          </a:xfrm>
          <a:prstGeom prst="line">
            <a:avLst/>
          </a:prstGeom>
          <a:ln w="1908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" y="2987640"/>
            <a:ext cx="268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tep 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itle the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22640" y="2971800"/>
            <a:ext cx="4740480" cy="457200"/>
          </a:xfrm>
          <a:prstGeom prst="rect">
            <a:avLst/>
          </a:prstGeom>
          <a:solidFill>
            <a:srgbClr val="33cc33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rk Ch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038480" y="3429000"/>
            <a:ext cx="4724640" cy="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3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4000"/>
                            </p:stCondLst>
                            <p:childTnLst>
                              <p:par>
                                <p:cTn id="4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60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7000"/>
                            </p:stCondLst>
                            <p:childTnLst>
                              <p:par>
                                <p:cTn id="4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9000"/>
                            </p:stCondLst>
                            <p:childTnLst>
                              <p:par>
                                <p:cTn id="4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3978360" y="3352680"/>
          <a:ext cx="4724280" cy="2971800"/>
        </p:xfrm>
        <a:graphic>
          <a:graphicData uri="http://schemas.openxmlformats.org/drawingml/2006/table">
            <a:tbl>
              <a:tblPr/>
              <a:tblGrid>
                <a:gridCol w="1428840"/>
                <a:gridCol w="1546200"/>
                <a:gridCol w="1749240"/>
              </a:tblGrid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ght (o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ul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-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-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-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-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6416640" y="4343400"/>
            <a:ext cx="1143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16640" y="4952880"/>
            <a:ext cx="1143000" cy="0"/>
          </a:xfrm>
          <a:prstGeom prst="line">
            <a:avLst/>
          </a:prstGeom>
          <a:ln w="1908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16640" y="5486400"/>
            <a:ext cx="1143000" cy="0"/>
          </a:xfrm>
          <a:prstGeom prst="line">
            <a:avLst/>
          </a:prstGeom>
          <a:ln w="1908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16640" y="6019920"/>
            <a:ext cx="1143000" cy="0"/>
          </a:xfrm>
          <a:prstGeom prst="line">
            <a:avLst/>
          </a:prstGeom>
          <a:ln w="1908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6416280" y="4448160"/>
            <a:ext cx="1143000" cy="380880"/>
          </a:xfrm>
          <a:prstGeom prst="line">
            <a:avLst/>
          </a:prstGeom>
          <a:ln w="1908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6416280" y="5029200"/>
            <a:ext cx="1143000" cy="380880"/>
          </a:xfrm>
          <a:prstGeom prst="line">
            <a:avLst/>
          </a:prstGeom>
          <a:ln w="1908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416280" y="5562720"/>
            <a:ext cx="1143000" cy="380880"/>
          </a:xfrm>
          <a:prstGeom prst="line">
            <a:avLst/>
          </a:prstGeom>
          <a:ln w="1908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2895480"/>
            <a:ext cx="4740120" cy="457200"/>
          </a:xfrm>
          <a:prstGeom prst="rect">
            <a:avLst/>
          </a:prstGeom>
          <a:solidFill>
            <a:srgbClr val="33cc33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rk Ch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78360" y="3352680"/>
            <a:ext cx="4724280" cy="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 Continu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167652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. How many packages weigh less than 24 ou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65040" y="2286000"/>
            <a:ext cx="3521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ll packages less than 24 oz are displayed in the first two rows of the table, so look at the cumulative frequency shown in the second 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5349960"/>
            <a:ext cx="364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8 packages with weights und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4 o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08120" y="1523880"/>
            <a:ext cx="843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he number of vowels in each sentence of a short essay are listed be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74880" y="2514600"/>
            <a:ext cx="733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33, 36, 39, 37, 34, 35, 43, 35, 28, 32, 36, 35, 29, 40, 33, 41, 3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22240" y="3429000"/>
            <a:ext cx="832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. Use the data to make a cumulative frequency t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62120" y="4359240"/>
            <a:ext cx="832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tep 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Choose intervals for the first column of the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62120" y="5349960"/>
            <a:ext cx="82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tep 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Record the frequency values in each interval for the second colum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4054320" y="3276720"/>
          <a:ext cx="4724280" cy="2971800"/>
        </p:xfrm>
        <a:graphic>
          <a:graphicData uri="http://schemas.openxmlformats.org/drawingml/2006/table">
            <a:tbl>
              <a:tblPr/>
              <a:tblGrid>
                <a:gridCol w="1428840"/>
                <a:gridCol w="1546200"/>
                <a:gridCol w="1749240"/>
              </a:tblGrid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ul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-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-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-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-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"/>
          <p:cNvSpPr/>
          <p:nvPr/>
        </p:nvSpPr>
        <p:spPr>
          <a:xfrm>
            <a:off x="6492960" y="4267080"/>
            <a:ext cx="1143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92960" y="4876920"/>
            <a:ext cx="1143000" cy="0"/>
          </a:xfrm>
          <a:prstGeom prst="line">
            <a:avLst/>
          </a:prstGeom>
          <a:ln w="1908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492960" y="5410080"/>
            <a:ext cx="1143000" cy="0"/>
          </a:xfrm>
          <a:prstGeom prst="line">
            <a:avLst/>
          </a:prstGeom>
          <a:ln w="1908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92960" y="5943600"/>
            <a:ext cx="1143000" cy="0"/>
          </a:xfrm>
          <a:prstGeom prst="line">
            <a:avLst/>
          </a:prstGeom>
          <a:ln w="1908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492600" y="4371840"/>
            <a:ext cx="1143000" cy="381240"/>
          </a:xfrm>
          <a:prstGeom prst="line">
            <a:avLst/>
          </a:prstGeom>
          <a:ln w="1908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6492600" y="4952880"/>
            <a:ext cx="1143000" cy="381240"/>
          </a:xfrm>
          <a:prstGeom prst="line">
            <a:avLst/>
          </a:prstGeom>
          <a:ln w="1908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6492600" y="5486400"/>
            <a:ext cx="1143000" cy="380880"/>
          </a:xfrm>
          <a:prstGeom prst="line">
            <a:avLst/>
          </a:prstGeom>
          <a:ln w="1908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052880" y="2819520"/>
            <a:ext cx="4740120" cy="457200"/>
          </a:xfrm>
          <a:prstGeom prst="rect">
            <a:avLst/>
          </a:prstGeom>
          <a:solidFill>
            <a:srgbClr val="33cc33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owels in Sen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054320" y="3276720"/>
            <a:ext cx="4724640" cy="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9960" y="1555920"/>
            <a:ext cx="82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tep 3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dd the frequency of each interval to the frequencies of all the intervals before it. Put that number in the third column of the table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2987640"/>
            <a:ext cx="268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tep 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itle the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6000"/>
                            </p:stCondLst>
                            <p:childTnLst>
                              <p:par>
                                <p:cTn id="4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800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160020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. How many sentences contain 35 vowels or few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130640" y="3276720"/>
          <a:ext cx="4724280" cy="2971800"/>
        </p:xfrm>
        <a:graphic>
          <a:graphicData uri="http://schemas.openxmlformats.org/drawingml/2006/table">
            <a:tbl>
              <a:tblPr/>
              <a:tblGrid>
                <a:gridCol w="1428840"/>
                <a:gridCol w="1546200"/>
                <a:gridCol w="1749240"/>
              </a:tblGrid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ul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-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-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-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-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>
            <a:off x="6568920" y="4267080"/>
            <a:ext cx="1143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568920" y="4876920"/>
            <a:ext cx="1143000" cy="0"/>
          </a:xfrm>
          <a:prstGeom prst="line">
            <a:avLst/>
          </a:prstGeom>
          <a:ln w="1908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68920" y="5410080"/>
            <a:ext cx="1143000" cy="0"/>
          </a:xfrm>
          <a:prstGeom prst="line">
            <a:avLst/>
          </a:prstGeom>
          <a:ln w="1908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68920" y="5943600"/>
            <a:ext cx="1143000" cy="0"/>
          </a:xfrm>
          <a:prstGeom prst="line">
            <a:avLst/>
          </a:prstGeom>
          <a:ln w="1908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6568560" y="4371840"/>
            <a:ext cx="1143000" cy="381240"/>
          </a:xfrm>
          <a:prstGeom prst="line">
            <a:avLst/>
          </a:prstGeom>
          <a:ln w="1908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6568560" y="4952880"/>
            <a:ext cx="1143000" cy="381240"/>
          </a:xfrm>
          <a:prstGeom prst="line">
            <a:avLst/>
          </a:prstGeom>
          <a:ln w="1908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6568560" y="5486400"/>
            <a:ext cx="1143000" cy="380880"/>
          </a:xfrm>
          <a:prstGeom prst="line">
            <a:avLst/>
          </a:prstGeom>
          <a:ln w="1908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114800" y="2819520"/>
            <a:ext cx="4740120" cy="457200"/>
          </a:xfrm>
          <a:prstGeom prst="rect">
            <a:avLst/>
          </a:prstGeom>
          <a:solidFill>
            <a:srgbClr val="33cc33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owels in Sen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130640" y="3276720"/>
            <a:ext cx="4724280" cy="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2241720"/>
            <a:ext cx="3521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ll sentences with less than 35 vowels. are displayed in the first two rows of the table, so look at the cumulative frequency shown in the second 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1360" y="5213520"/>
            <a:ext cx="382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here are 9 sentences with fewer than 35 vowe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523880"/>
            <a:ext cx="79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The number of miles on the new cars in a car lot are given below. Use the data to make a stem-and-leaf pl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66680" y="2743200"/>
            <a:ext cx="79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35, 21, 15, 51, 39, 41, 46, 22, 28, 16, 12, 40, 34, 56, 25,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362916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62120" y="152388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he numbers of pounds of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laundry in the washers at a laundromat are given below. Use the data to make a cumulative frequency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622160" y="2774880"/>
            <a:ext cx="40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, 12, 4, 8, 5, 8, 11, 3, 6, 9,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676520" y="3429000"/>
            <a:ext cx="578160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I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46280" y="163188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Use the frequency table from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Problem 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to make a hist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277164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1905120"/>
            <a:ext cx="7925040" cy="20574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reate stem-and-leaf plo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reate frequency tables and histogr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219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00"/>
                </a:solidFill>
                <a:latin typeface="Arial Black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2133720"/>
            <a:ext cx="7696440" cy="304776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em-and-leaf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requency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ist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umulative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219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 Black"/>
              </a:rPr>
              <a:t>Vocabul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14400" y="1371600"/>
            <a:ext cx="771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stem-and-lea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plot arranges data by dividing each data value into two parts. This allows you to see each data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176720" y="4010040"/>
            <a:ext cx="928800" cy="637920"/>
            <a:chOff x="4176720" y="4010040"/>
            <a:chExt cx="928800" cy="63792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4219560" y="4029120"/>
              <a:ext cx="857520" cy="61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4643640" y="403848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6720" y="401004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91120" y="45720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5734080" y="3054240"/>
            <a:ext cx="280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Arial"/>
              </a:rPr>
              <a:t>The last digit of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Arial"/>
              </a:rPr>
              <a:t>value is called a lea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3054240"/>
            <a:ext cx="3353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Verdana"/>
                <a:ea typeface="Arial"/>
              </a:rPr>
              <a:t>The digits other than the last digit of each value are called a 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95480" y="3886200"/>
            <a:ext cx="1219320" cy="30492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181120" y="3809880"/>
            <a:ext cx="762120" cy="381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58280" y="4648320"/>
            <a:ext cx="432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Verdana"/>
                <a:ea typeface="Arial"/>
              </a:rPr>
              <a:t>Key: 2|3 means 2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562284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Verdana"/>
                <a:ea typeface="Arial"/>
              </a:rPr>
              <a:t>The key tells you how to read each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952880" y="5257440"/>
            <a:ext cx="609840" cy="60948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A: Making a Stem-and-Leaf Pl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50840" y="1600200"/>
            <a:ext cx="809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he numbers of defective widgets in batches of 1000 are given below. Use the data to make a stem-and-leaf pl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36480" y="2819520"/>
            <a:ext cx="54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14, 12, 8, 9, 13, 20, 15, 9, 21, 8, 13,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96920" y="3352680"/>
            <a:ext cx="334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Number of Def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Widgets per B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171440" y="4114800"/>
            <a:ext cx="2590920" cy="501480"/>
            <a:chOff x="1171440" y="4114800"/>
            <a:chExt cx="2590920" cy="501480"/>
          </a:xfrm>
        </p:grpSpPr>
        <p:sp>
          <p:nvSpPr>
            <p:cNvPr id="80" name=""/>
            <p:cNvSpPr/>
            <p:nvPr/>
          </p:nvSpPr>
          <p:spPr>
            <a:xfrm>
              <a:off x="1171440" y="4616280"/>
              <a:ext cx="2590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427400" y="4114800"/>
              <a:ext cx="212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Stem   Lea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989360" y="4572000"/>
            <a:ext cx="2178720" cy="1266120"/>
            <a:chOff x="1989360" y="4572000"/>
            <a:chExt cx="2178720" cy="1266120"/>
          </a:xfrm>
        </p:grpSpPr>
        <p:sp>
          <p:nvSpPr>
            <p:cNvPr id="83" name=""/>
            <p:cNvSpPr/>
            <p:nvPr/>
          </p:nvSpPr>
          <p:spPr>
            <a:xfrm>
              <a:off x="2005920" y="4572000"/>
              <a:ext cx="160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99"/>
                  </a:solidFill>
                  <a:latin typeface="Verdana"/>
                  <a:ea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8 8 9 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57760" y="4997520"/>
              <a:ext cx="211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99"/>
                  </a:solidFill>
                  <a:latin typeface="Verdana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2 3 3 4 5 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989360" y="5378400"/>
              <a:ext cx="117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99"/>
                  </a:solidFill>
                  <a:latin typeface="Verdana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0 1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2362320" y="4267080"/>
            <a:ext cx="28440" cy="1405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937040" y="3392640"/>
            <a:ext cx="41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  <a:ea typeface="Arial"/>
              </a:rPr>
              <a:t> tens digits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are the 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38840" y="3809880"/>
            <a:ext cx="420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ones digits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are the leaves. List the leaves from least to greatest within each 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41000" y="541008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itle the graph and add a k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65040" y="589932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  <a:ea typeface="Arial"/>
              </a:rPr>
              <a:t>Key: 1|9 means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B: Making a Stem-and-Leaf Pl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98560" y="1523880"/>
            <a:ext cx="82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he season’s scores for the football teams going to the state championship are given below. Use the data to make a back-to-back stem-and-leaf pl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386360" y="3079800"/>
            <a:ext cx="6360480" cy="884880"/>
            <a:chOff x="1386360" y="3079800"/>
            <a:chExt cx="6360480" cy="884880"/>
          </a:xfrm>
        </p:grpSpPr>
        <p:sp>
          <p:nvSpPr>
            <p:cNvPr id="94" name=""/>
            <p:cNvSpPr/>
            <p:nvPr/>
          </p:nvSpPr>
          <p:spPr>
            <a:xfrm>
              <a:off x="1386360" y="3079800"/>
              <a:ext cx="634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eam A: 65, 42, 56, 49, 58, 42, 61, 55, 45, 7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01480" y="3504960"/>
              <a:ext cx="634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eam B: 57, 60, 48, 49, 52, 61, 58, 37, 63, 4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1050840" y="3344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B Continu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321560" y="1523880"/>
            <a:ext cx="6360120" cy="884880"/>
            <a:chOff x="1321560" y="1523880"/>
            <a:chExt cx="6360120" cy="884880"/>
          </a:xfrm>
        </p:grpSpPr>
        <p:sp>
          <p:nvSpPr>
            <p:cNvPr id="99" name=""/>
            <p:cNvSpPr/>
            <p:nvPr/>
          </p:nvSpPr>
          <p:spPr>
            <a:xfrm>
              <a:off x="1321560" y="1523880"/>
              <a:ext cx="634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eam A: 65, 42, 56, 49, 58, 42, 61, 55, 45, 7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36320" y="1949040"/>
              <a:ext cx="634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eam B: 57, 60, 48, 49, 52, 61, 58, 37, 63, 4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1050840" y="3344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4320" y="2438280"/>
            <a:ext cx="343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Football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Championship S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090440" y="3429000"/>
            <a:ext cx="3200400" cy="2288520"/>
            <a:chOff x="1090440" y="3429000"/>
            <a:chExt cx="3200400" cy="2288520"/>
          </a:xfrm>
        </p:grpSpPr>
        <p:sp>
          <p:nvSpPr>
            <p:cNvPr id="104" name=""/>
            <p:cNvSpPr/>
            <p:nvPr/>
          </p:nvSpPr>
          <p:spPr>
            <a:xfrm>
              <a:off x="1344600" y="3429000"/>
              <a:ext cx="28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eam A       Team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83800" y="380988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99"/>
                  </a:solidFill>
                  <a:latin typeface="Verdana"/>
                  <a:ea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57200" y="4159080"/>
              <a:ext cx="252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9 5 2 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 </a:t>
              </a:r>
              <a:r>
                <a:rPr b="0" lang="en-US" sz="2400" spc="-1" strike="noStrike">
                  <a:solidFill>
                    <a:srgbClr val="cc0099"/>
                  </a:solidFill>
                  <a:latin typeface="Verdana"/>
                  <a:ea typeface="Arial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8 8 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34400" y="4540320"/>
              <a:ext cx="22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8 6 5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 </a:t>
              </a:r>
              <a:r>
                <a:rPr b="0" lang="en-US" sz="2400" spc="-1" strike="noStrike">
                  <a:solidFill>
                    <a:srgbClr val="cc0099"/>
                  </a:solidFill>
                  <a:latin typeface="Verdana"/>
                  <a:ea typeface="Arial"/>
                </a:rPr>
                <a:t>5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2 7 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24480" y="4876920"/>
              <a:ext cx="209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5 1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 </a:t>
              </a:r>
              <a:r>
                <a:rPr b="0" lang="en-US" sz="2400" spc="-1" strike="noStrike">
                  <a:solidFill>
                    <a:srgbClr val="cc0099"/>
                  </a:solidFill>
                  <a:latin typeface="Verdana"/>
                  <a:ea typeface="Arial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0 1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774800" y="5257800"/>
              <a:ext cx="14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 </a:t>
              </a:r>
              <a:r>
                <a:rPr b="0" lang="en-US" sz="2400" spc="-1" strike="noStrike">
                  <a:solidFill>
                    <a:srgbClr val="cc0099"/>
                  </a:solidFill>
                  <a:latin typeface="Verdana"/>
                  <a:ea typeface="Arial"/>
                </a:rPr>
                <a:t>7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90440" y="3857760"/>
              <a:ext cx="3200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52760" y="3505320"/>
              <a:ext cx="0" cy="213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09960" y="3505320"/>
              <a:ext cx="0" cy="213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4937040" y="3048120"/>
            <a:ext cx="41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  <a:ea typeface="Arial"/>
              </a:rPr>
              <a:t> tens digits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are the 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8840" y="3465360"/>
            <a:ext cx="42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ones digits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are the le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941000" y="548640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itle the graph and add a k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28680" y="5715000"/>
            <a:ext cx="295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Verdana"/>
                <a:ea typeface="Arial"/>
              </a:rPr>
              <a:t>Key: |4|8 means 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Verdana"/>
                <a:ea typeface="Arial"/>
              </a:rPr>
              <a:t>        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  <a:ea typeface="Arial"/>
              </a:rPr>
              <a:t>2|4| means 4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4282920"/>
            <a:ext cx="42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Put Team A’s scores on the left side and Team B’s scores on the 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3716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he temperature in degrees Celsius for two weeks are given below. Use the data to make a stem-and-leaf pl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30560" y="2666880"/>
            <a:ext cx="69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7, 32, 34, 31, 26, 27, 23, 19, 22, 29, 30, 36, 35, 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0320" y="60958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  <a:ea typeface="Arial"/>
              </a:rPr>
              <a:t>Key: 1|9 means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95240" y="32767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emperature  in Degrees Cels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37040" y="3962520"/>
            <a:ext cx="41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  <a:ea typeface="Arial"/>
              </a:rPr>
              <a:t> tens digits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are the 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38840" y="4543560"/>
            <a:ext cx="420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ones digits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are the leaves. List the leaves from least to greatest within each 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41000" y="609588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itle the graph and add a k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838080" y="4114800"/>
            <a:ext cx="3380400" cy="2091600"/>
            <a:chOff x="838080" y="4114800"/>
            <a:chExt cx="3380400" cy="2091600"/>
          </a:xfrm>
        </p:grpSpPr>
        <p:grpSp>
          <p:nvGrpSpPr>
            <p:cNvPr id="127" name=""/>
            <p:cNvGrpSpPr/>
            <p:nvPr/>
          </p:nvGrpSpPr>
          <p:grpSpPr>
            <a:xfrm>
              <a:off x="838080" y="4114800"/>
              <a:ext cx="2590920" cy="501480"/>
              <a:chOff x="838080" y="4114800"/>
              <a:chExt cx="2590920" cy="501480"/>
            </a:xfrm>
          </p:grpSpPr>
          <p:sp>
            <p:nvSpPr>
              <p:cNvPr id="128" name=""/>
              <p:cNvSpPr/>
              <p:nvPr/>
            </p:nvSpPr>
            <p:spPr>
              <a:xfrm>
                <a:off x="838080" y="4616280"/>
                <a:ext cx="2590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094040" y="4114800"/>
                <a:ext cx="2129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Stem   Leav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1599480" y="4572000"/>
              <a:ext cx="84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99"/>
                  </a:solidFill>
                  <a:latin typeface="Verdana"/>
                  <a:ea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02720" y="4997520"/>
              <a:ext cx="84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99"/>
                  </a:solidFill>
                  <a:latin typeface="Verdana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28720" y="5378400"/>
              <a:ext cx="193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99"/>
                  </a:solidFill>
                  <a:latin typeface="Verdana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2 3 6 7 9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75880" y="5746680"/>
              <a:ext cx="244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99"/>
                  </a:solidFill>
                  <a:latin typeface="Verdana"/>
                  <a:ea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0 1 1 2 4 5 6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28960" y="4114800"/>
              <a:ext cx="0" cy="2057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stevenh</cp:lastModifiedBy>
  <dcterms:modified xsi:type="dcterms:W3CDTF">2006-05-12T14:27:37Z</dcterms:modified>
  <cp:revision>321</cp:revision>
  <dc:subject/>
  <dc:title>Slide 1</dc:title>
</cp:coreProperties>
</file>